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0E3C-7CCD-4831-91AB-B28E07394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29B8-5432-4AF1-8E06-C01BD2D4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6153-FDBC-4A69-97FE-926366875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9B14-9199-45DD-966C-08911D594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D7A4-EE15-401D-9D26-E74E72BE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416A-57BE-40A8-A14C-A7564B80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D466-705A-49F3-944E-85D95F9C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29B6-A031-4E02-9C67-2F188587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496B-1F1E-4C35-ABD9-C010F81B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4855-E922-4F92-B62E-24F23DF9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0916-E654-4689-A410-AA4C2F39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92FC-EEC2-4E16-B368-C363922A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53D1-0266-40C8-B77E-EC624471B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14.xml"/><Relationship Id="rId10" Type="http://schemas.openxmlformats.org/officeDocument/2006/relationships/slide" Target="slide16.xml"/><Relationship Id="rId11" Type="http://schemas.openxmlformats.org/officeDocument/2006/relationships/slide" Target="slide18.xml"/><Relationship Id="rId12" Type="http://schemas.openxmlformats.org/officeDocument/2006/relationships/slide" Target="slide20.xml"/><Relationship Id="rId13" Type="http://schemas.openxmlformats.org/officeDocument/2006/relationships/slide" Target="slide22.xml"/><Relationship Id="rId14" Type="http://schemas.openxmlformats.org/officeDocument/2006/relationships/slide" Target="slide24.xml"/><Relationship Id="rId15" Type="http://schemas.openxmlformats.org/officeDocument/2006/relationships/slide" Target="slide26.xml"/><Relationship Id="rId16" Type="http://schemas.openxmlformats.org/officeDocument/2006/relationships/slide" Target="slide28.xml"/><Relationship Id="rId17" Type="http://schemas.openxmlformats.org/officeDocument/2006/relationships/slide" Target="slide30.xml"/><Relationship Id="rId18" Type="http://schemas.openxmlformats.org/officeDocument/2006/relationships/slide" Target="slide32.xml"/><Relationship Id="rId19" Type="http://schemas.openxmlformats.org/officeDocument/2006/relationships/slide" Target="slide34.xml"/><Relationship Id="rId20" Type="http://schemas.openxmlformats.org/officeDocument/2006/relationships/slide" Target="slide36.xml"/><Relationship Id="rId21" Type="http://schemas.openxmlformats.org/officeDocument/2006/relationships/slide" Target="slide38.xml"/><Relationship Id="rId22" Type="http://schemas.openxmlformats.org/officeDocument/2006/relationships/slide" Target="slide40.xml"/><Relationship Id="rId23" Type="http://schemas.openxmlformats.org/officeDocument/2006/relationships/slide" Target="slide42.xml"/><Relationship Id="rId24" Type="http://schemas.openxmlformats.org/officeDocument/2006/relationships/slide" Target="slide44.xml"/><Relationship Id="rId25" Type="http://schemas.openxmlformats.org/officeDocument/2006/relationships/slide" Target="slide44.xml"/><Relationship Id="rId26" Type="http://schemas.openxmlformats.org/officeDocument/2006/relationships/slide" Target="slide48.xml"/><Relationship Id="rId27" Type="http://schemas.openxmlformats.org/officeDocument/2006/relationships/slide" Target="slide50.xml"/><Relationship Id="rId28" Type="http://schemas.openxmlformats.org/officeDocument/2006/relationships/slide" Target="slide2.xml"/><Relationship Id="rId2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8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9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0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1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2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3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4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5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6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8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9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0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1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2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3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4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5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6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7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8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uth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n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r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Sec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fe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lter Mit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Wo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Scott Fitzgera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st and last name of Fitzgerald’s w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Scott Fitzgera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Zelda Say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ter Dream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ay Dexter becomes 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ter Dream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rough laundries - he doesn’t shrink golf s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ter Dream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tting where Dexter and Judy meet for the second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ter Dream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a golf cour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 hits one of the players Dexter is playing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ter Dream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xter’s winter dre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ter Dream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for a rich lifestyle (main dre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lf pro &amp; Judy (smaller drea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ter Dream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tion Dexter takes after Judy leaves h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ter Dream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join the military and go to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Scott Fitzgera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ime period Fitzgerald was famous for writing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ter Dream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me of the golfer Dexter dreams of playing one day (which he later do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ter Dream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Mr. T.A. Hedr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 of the Peop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tem Jody gets for his grandfather at the end of the 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 of the Peop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lemon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 of the Peop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me of the hired 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 of the Peop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Billy Bu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 of the Peop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ickname Carl gives Jody when Jody is questioning the l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 of the Peop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“Big Britch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 of the Peop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rigin of the 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 of the Peop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grandfather was the leader of a group of people moving w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Scott Fitzgera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1920s - Jazz 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 of the Peop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ne of the grandfather’s stories - the object the grandfather tells his people of the wagon trains to use to protect themselves from the Indi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 of the Peop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steel pl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ecret Life of Walter Mitt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tem Mitty used to fix the machine with in one of his daydre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ecret Life of Walter Mitt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a 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ecret Life of Walter Mitt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tions in reality #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ecret Life of Walter Mitt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parking lot attendant telling Mitty where to park, Mitty remembering the shopping list, and the newsboy yelling about a t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ecret Life of Walter Mitt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 that caused Mitty’s dream #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ecret Life of Walter Mitt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reading an article about WWI in the hotel while waiting for his w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ecret Life of Walter Mitt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rody with the puppy biscu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ecret Life of Walter Mitt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advertising slogans - the catchy jingles don’t really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mes Thur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ason for the end of Thurber’s writing car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ecret Life of Walter Mitt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engines of the Navy hydroplane in dream #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ecret Life of Walter Mitt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Worn Path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type of case the ladies in the office call Phoenix (what they write in the boo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Worn Path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“charity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Worn Path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 the little boy gives Phoenix in her d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80000" y="2523960"/>
            <a:ext cx="1839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Worn Path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a piece of c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Worn Path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ason of the grandson’s sick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Worn Path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e swallowed ly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Worn Path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otal amount of money she received on her trip and where it came f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Worn Path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$0.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0.05 fell from the hunter’s po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0.05 was given to her by the lady in the hospital off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mes Thur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loss of his eyes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Worn Path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 Phoenix was going to buy for her grand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Worn Path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a paper windm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hn Steinbe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me of the novels Steinbeck as popular for writing - dealt with the injustice of the De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hn Steinbe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“protest novel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dora Wel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ty’s most well known book (it won her the Pulitzer Pr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dora Wel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ptimist’s Daugh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Mindi Spear</cp:lastModifiedBy>
  <dcterms:modified xsi:type="dcterms:W3CDTF">2006-02-12T19:44:52Z</dcterms:modified>
  <cp:revision>46</cp:revision>
  <dc:subject/>
  <dc:title>No Slide Title</dc:title>
</cp:coreProperties>
</file>